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6.jpeg" ContentType="image/jpeg"/>
  <Override PartName="/ppt/media/chimes.wav" ContentType="audio/x-wav"/>
  <Override PartName="/ppt/media/image29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1.jpeg" ContentType="image/jpeg"/>
  <Override PartName="/ppt/media/image4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23"/>
          </p:nvPr>
        </p:nvSpPr>
        <p:spPr>
          <a:xfrm>
            <a:off x="-3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 type="sldNum" idx="24"/>
          </p:nvPr>
        </p:nvSpPr>
        <p:spPr>
          <a:xfrm>
            <a:off x="388440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923F-DCD3-4984-9B4B-CC20593A8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7EE4-D630-4D44-B045-7566868497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1CB-F11D-4617-BE5D-6DF87C1FC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2378-44A0-413B-B11E-F8CE85B20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144E-6849-425A-A80F-64EBDE2B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A55B-506C-4617-951E-9BB03A8A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A282-89C6-483D-92B6-458DA793D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17D-E2D9-4C5E-903D-82748FC0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5A1-56B7-4C14-AA75-62035E2F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393-410D-41B0-A6EF-8BE838F3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A4E-C636-45DC-941B-332756FE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CBD9-C2F9-4457-BA4A-2D7264E5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9277-DA53-46CA-B3DA-78FB790D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2B3F-798D-4457-A08F-117C9147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AC4F-6E14-47EC-A438-D463E1DB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03D-20F3-495A-B572-45C5290C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EA75-976D-4754-84C0-5A1B5B56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4AD6-13D3-4F40-8FF6-84295779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C37-BF61-4283-BA5F-0CEEC791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BE90-6B20-4479-8058-C398D51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E9B8-7636-4D0B-B11F-9F3A6DC4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5B58-6D5F-4B0C-8CEE-980A28B2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DB9B-E0DC-4A22-89E6-3C5B0C59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439C-9A37-4045-9194-62D9ACAE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4093-1601-44B3-AEC4-BC10309F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F5A2-FB8B-4842-B8F0-759083AB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3057-3E50-416A-8CD8-50DD367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B830-588F-49B9-B01A-9C57BDA7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8579-6D22-42A9-AA19-EF55CCC0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98F-27D6-4C19-A78E-6BF51C9B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8102-7E94-4C62-A255-B240172C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A7D3-6785-4E70-A76E-509ECAE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7EFD-297A-4866-AD6A-2DC7E1CE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F9BE-3DE6-4873-9E7D-93B7FDB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94C7-D2D8-4400-AFF3-356E886D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7B25-9597-4086-A4D7-A41560A5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D308-823C-4835-B51B-5BACB408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DC33-B26A-47D8-8FAF-F6E5BC12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D060-5832-4134-9871-3A3A7081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0A50-0984-4C7F-B10E-5E04C09D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D8A-1623-4219-A283-525B800C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CB3F-7EDD-433E-B80C-CF4DD722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BF74C-791D-4F5A-89B2-B43DFBE6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272C-6E86-4FDC-8EB9-07421FB8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2EC03-275A-4FB0-92B2-BBE858B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4AFCB-7283-49E3-91F6-571D357C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28843-66A1-4813-AAA7-9B4DAC4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F3FA9-030C-4C35-85E7-4EB79B85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139F-C515-4E40-8A53-1F51302C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F2BA-0175-40FD-8887-8B3800AA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211DB-4600-411B-A50C-E5FC4A73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E6D-75CF-41B7-AB66-404DB458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36CDA-3018-4C96-9988-0EE561A4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ED39D-86E7-4A06-952F-B2FCF2FD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E173B-3938-4B2A-9425-BF6C183A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EC80-5244-421D-8D52-76ED972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825C-71DC-4C55-B672-3C08EEB8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10A8C-2050-4195-82CF-580F3FD4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217AF-A220-41C7-B2B1-D456B79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7CC1-E318-46B7-9338-24E3D127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FF663-A624-44FE-BA99-B586E344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54A55-DF23-414B-83C2-2810FFD6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EF1-27BC-404B-8032-2940E832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93A49-1C2F-414F-9BC9-E1305E17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D81CE-FCE8-416E-9F91-400ECE3F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C560E-7C23-47CD-910C-DECA077F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644B1-BB3E-4379-A467-F8E462F2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AB366-CC0F-4048-908B-C919E5B7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700FE-54C0-4F2F-977E-1830766C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96B11-52E9-4B06-9513-001BADC8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24C44-8B01-4CFC-A657-151B6E4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4B33F-6175-410D-BE1C-423FB469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09E4D-0E3C-466C-92CA-F37EA45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356-08D3-4E96-ACFD-5D424B98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C28CB-C710-49E7-A5DF-20998250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99D47-B05B-44C9-9B9C-3EED9585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643B4-BDB4-43F1-ABD0-2A6EEB85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8F114-C08A-48A6-A678-B127CBA6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5F79B-2B60-4070-BE48-E7F2777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6A76D-754D-46F9-B997-5C54A6AC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3E25B-647E-463D-AE66-23656B4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8DDFA-4EE3-4175-9B7C-10B43579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B78BC-94A7-4C4D-B364-46EAB663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D868A-1630-4C69-B390-D8305FD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D53-41C5-4CD2-B7D5-B0B121E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4C6F1-A5EF-4318-96A2-28EA7C5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60136-A140-4475-9CD2-DD786ED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DD38D-C80F-4818-968E-C359B173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0764E-A774-461D-B06F-AD2A0ECE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83D3F-152E-4188-875C-AB6A7235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87B-F89C-4470-BE64-214AFC6F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871D-8B24-4A48-834D-A23EEDD395BD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15A8-F76A-4BCA-9D33-44E38A3CB8DE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15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15 Elipse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E4A8-1D29-404D-8642-104624595D71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AB84-C7AE-40FE-A77C-8BCE58A953CB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12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12 Rectángulo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4d4d4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dede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605-9EDE-4FA2-A601-5D50888D7C7F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60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5C92-FFC9-4732-B1E7-D19600CA3964}" type="slidenum">
              <a:rPr b="0" lang="es-E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08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A77B-5D8E-4BE2-9F67-79B6DCC479A2}" type="slidenum">
              <a:rPr b="0" lang="es-E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6760" y="404640"/>
            <a:ext cx="82868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900" spc="-1" strike="noStrike">
                <a:solidFill>
                  <a:srgbClr val="0070c0"/>
                </a:solidFill>
                <a:latin typeface="Gill Sans MT"/>
              </a:rPr>
              <a:t>INTRODUCCIÓN A LA HISTORIA DE LAS RELIGIONES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285840" y="1857240"/>
            <a:ext cx="8504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El hombre es un ser inteligente, y por lo mismo, se plantea la explicación última de todas las cosas y el sentido de su v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Busca alguien más grande, más pleno, más perfecto, creador... y cuando lo encuentra lo reconoce como ser supremo: el único que puede darle la felicidad; se da cuenta que ha sido creado, y que lo anhela con todo su ser. y por eso mismo se abre a 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do esto lo hace un ser esencialmente religios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IMERA CONCLUSIÓ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religión es parte de la cultura de los pueblos, y, como tal, es objeto de estudio de diferentes disciplinas de las ciencias sociales: la Antropología cultural, la Sociología de la Religión, la Teología,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549000"/>
            <a:ext cx="30607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RISTIAN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2 Marcador de contenido"/>
          <p:cNvSpPr/>
          <p:nvPr/>
        </p:nvSpPr>
        <p:spPr>
          <a:xfrm>
            <a:off x="6083280" y="549360"/>
            <a:ext cx="30607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SLA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2 Marcador de contenido"/>
          <p:cNvSpPr/>
          <p:nvPr/>
        </p:nvSpPr>
        <p:spPr>
          <a:xfrm>
            <a:off x="5076720" y="5300640"/>
            <a:ext cx="30607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HINDU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2 Marcador de contenido"/>
          <p:cNvSpPr/>
          <p:nvPr/>
        </p:nvSpPr>
        <p:spPr>
          <a:xfrm>
            <a:off x="6083280" y="2349360"/>
            <a:ext cx="3060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JUDAÍ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2 Marcador de contenido"/>
          <p:cNvSpPr/>
          <p:nvPr/>
        </p:nvSpPr>
        <p:spPr>
          <a:xfrm>
            <a:off x="250920" y="4941720"/>
            <a:ext cx="306216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BUD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http://upload.wikimedia.org/wikipedia/commons/thumb/3/38/ReligijneSymbole.svg/300px-ReligijneSymbole.svg.png"/>
          <p:cNvPicPr/>
          <p:nvPr/>
        </p:nvPicPr>
        <p:blipFill>
          <a:blip r:embed="rId1"/>
          <a:stretch/>
        </p:blipFill>
        <p:spPr>
          <a:xfrm>
            <a:off x="2411280" y="1413000"/>
            <a:ext cx="3429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300" spc="-1" strike="noStrike">
                <a:solidFill>
                  <a:srgbClr val="0070c0"/>
                </a:solidFill>
                <a:latin typeface="Gill Sans MT"/>
              </a:rPr>
              <a:t>Hechos de la Religión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1320" y="152676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Toda religión es un modo concreto de llegar a Dios: un camino de acceso a la divinidad, al Creador del universo (y de nosotros mismos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Implican una concepción de Dios y del mundo, por lo cual sus hecho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Ser Común entre los homb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s una Realidad Trascend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Provoca una Actitud Rever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No es Manipu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571840" y="571320"/>
            <a:ext cx="5122800" cy="10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70c0"/>
                </a:solidFill>
                <a:latin typeface="Gill Sans MT"/>
              </a:rPr>
              <a:t>EL ORIGEN DE LA RELIGION</a:t>
            </a:r>
            <a:endParaRPr b="0" lang="en-US" sz="28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298440" y="1925640"/>
            <a:ext cx="547200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igión como elemento ese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er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Line 16" descr=""/>
          <p:cNvPicPr/>
          <p:nvPr/>
        </p:nvPicPr>
        <p:blipFill>
          <a:blip r:embed="rId1"/>
          <a:stretch/>
        </p:blipFill>
        <p:spPr>
          <a:xfrm>
            <a:off x="189000" y="2590920"/>
            <a:ext cx="182520" cy="676080"/>
          </a:xfrm>
          <a:prstGeom prst="rect">
            <a:avLst/>
          </a:prstGeom>
          <a:ln w="0">
            <a:noFill/>
          </a:ln>
        </p:spPr>
      </p:pic>
      <p:pic>
        <p:nvPicPr>
          <p:cNvPr id="493" name="Line 17" descr=""/>
          <p:cNvPicPr/>
          <p:nvPr/>
        </p:nvPicPr>
        <p:blipFill>
          <a:blip r:embed="rId2"/>
          <a:stretch/>
        </p:blipFill>
        <p:spPr>
          <a:xfrm>
            <a:off x="579600" y="2425680"/>
            <a:ext cx="444240" cy="311040"/>
          </a:xfrm>
          <a:prstGeom prst="rect">
            <a:avLst/>
          </a:prstGeom>
          <a:ln w="0">
            <a:noFill/>
          </a:ln>
        </p:spPr>
      </p:pic>
      <p:sp>
        <p:nvSpPr>
          <p:cNvPr id="494" name="Oval 18"/>
          <p:cNvSpPr/>
          <p:nvPr/>
        </p:nvSpPr>
        <p:spPr>
          <a:xfrm>
            <a:off x="874800" y="2717640"/>
            <a:ext cx="4537080" cy="7923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ombre es capaz de 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Line 19" descr=""/>
          <p:cNvPicPr/>
          <p:nvPr/>
        </p:nvPicPr>
        <p:blipFill>
          <a:blip r:embed="rId3"/>
          <a:stretch/>
        </p:blipFill>
        <p:spPr>
          <a:xfrm>
            <a:off x="189000" y="3097080"/>
            <a:ext cx="182520" cy="1103400"/>
          </a:xfrm>
          <a:prstGeom prst="rect">
            <a:avLst/>
          </a:prstGeom>
          <a:ln w="0">
            <a:noFill/>
          </a:ln>
        </p:spPr>
      </p:pic>
      <p:pic>
        <p:nvPicPr>
          <p:cNvPr id="496" name="Line 22" descr=""/>
          <p:cNvPicPr/>
          <p:nvPr/>
        </p:nvPicPr>
        <p:blipFill>
          <a:blip r:embed="rId4"/>
          <a:stretch/>
        </p:blipFill>
        <p:spPr>
          <a:xfrm>
            <a:off x="579600" y="3432240"/>
            <a:ext cx="590400" cy="311040"/>
          </a:xfrm>
          <a:prstGeom prst="rect">
            <a:avLst/>
          </a:prstGeom>
          <a:ln w="0">
            <a:noFill/>
          </a:ln>
        </p:spPr>
      </p:pic>
      <p:sp>
        <p:nvSpPr>
          <p:cNvPr id="497" name="Oval 23"/>
          <p:cNvSpPr/>
          <p:nvPr/>
        </p:nvSpPr>
        <p:spPr>
          <a:xfrm>
            <a:off x="1017720" y="3726000"/>
            <a:ext cx="5329080" cy="7189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nocimiento de la existencia de 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6346800" y="3149640"/>
            <a:ext cx="2665440" cy="71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a experi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5"/>
          <p:cNvSpPr/>
          <p:nvPr/>
        </p:nvSpPr>
        <p:spPr>
          <a:xfrm>
            <a:off x="514440" y="4950000"/>
            <a:ext cx="4608360" cy="504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xplicación última d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6"/>
          <p:cNvSpPr/>
          <p:nvPr/>
        </p:nvSpPr>
        <p:spPr>
          <a:xfrm>
            <a:off x="5770440" y="4589640"/>
            <a:ext cx="3095640" cy="1296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xplicación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ido últim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a hum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Line 29" descr=""/>
          <p:cNvPicPr/>
          <p:nvPr/>
        </p:nvPicPr>
        <p:blipFill>
          <a:blip r:embed="rId5"/>
          <a:stretch/>
        </p:blipFill>
        <p:spPr>
          <a:xfrm>
            <a:off x="5614920" y="3382920"/>
            <a:ext cx="882720" cy="603360"/>
          </a:xfrm>
          <a:prstGeom prst="rect">
            <a:avLst/>
          </a:prstGeom>
          <a:ln w="0">
            <a:noFill/>
          </a:ln>
        </p:spPr>
      </p:pic>
      <p:pic>
        <p:nvPicPr>
          <p:cNvPr id="502" name="Line 30" descr=""/>
          <p:cNvPicPr/>
          <p:nvPr/>
        </p:nvPicPr>
        <p:blipFill>
          <a:blip r:embed="rId6"/>
          <a:stretch/>
        </p:blipFill>
        <p:spPr>
          <a:xfrm>
            <a:off x="2189160" y="4389480"/>
            <a:ext cx="304920" cy="743040"/>
          </a:xfrm>
          <a:prstGeom prst="rect">
            <a:avLst/>
          </a:prstGeom>
          <a:ln w="0">
            <a:noFill/>
          </a:ln>
        </p:spPr>
      </p:pic>
      <p:pic>
        <p:nvPicPr>
          <p:cNvPr id="503" name="Line 31" descr=""/>
          <p:cNvPicPr/>
          <p:nvPr/>
        </p:nvPicPr>
        <p:blipFill>
          <a:blip r:embed="rId7"/>
          <a:stretch/>
        </p:blipFill>
        <p:spPr>
          <a:xfrm>
            <a:off x="4956120" y="4309920"/>
            <a:ext cx="96840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f4259"/>
                </a:solidFill>
                <a:latin typeface="Gill Sans MT"/>
              </a:rPr>
              <a:t>      </a:t>
            </a:r>
            <a:r>
              <a:rPr b="1" lang="es-E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ER HUMANO Y LAS DIVERSAS </a:t>
            </a:r>
            <a:br>
              <a:rPr sz="2200"/>
            </a:br>
            <a:r>
              <a:rPr b="1" lang="es-E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RESIONES DE SU RELIGIOSIDAD</a:t>
            </a:r>
            <a:endParaRPr b="0" lang="en-US" sz="22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rácter religioso del hombre se manifiesta por los rastros más primitivos de su herencia 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imeros actos del hombre primitivo están relacionados con la relig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s grandes civilizaciones de la humanidad surge el elemento religioso que configura la cultura de cada pueblo y la convivencia entre los hombr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lemento religioso se hace real en una amplitud de expresiones religio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4592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Signos de la Religión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randes masas son motivadas por ell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 hombre tiende a creer en lo que no puede domin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Etimología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Religuere = Religado”. Invita 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is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lver a orden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er datos para luego convertirlos en deber para nuestra vida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300" spc="-1" strike="noStrike">
                <a:solidFill>
                  <a:srgbClr val="0070c0"/>
                </a:solidFill>
                <a:latin typeface="Gill Sans MT"/>
              </a:rPr>
              <a:t>Modos de Plantearse la Religión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En general, se citar: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. Ascendente: el hombre busca caminos hacia su Creador: se esfuerza por llegar, se “estira” para alcanzar a Dios: conocerlo, agradarlo, honrarlo.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2. Descendente: Dios que se dirige al hombre y se revela, lo salva y le muestra el camino de salv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300" spc="-1" strike="noStrike">
                <a:solidFill>
                  <a:srgbClr val="0070c0"/>
                </a:solidFill>
                <a:latin typeface="Gill Sans MT"/>
              </a:rPr>
              <a:t>Tipos de Conocimiento de Dios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42920" y="142848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C. Natural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hombre sin mayores razonamientos puede llegar a Dios a través de vías naturales (admiración del orden en lo existent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C. Mediante la Revelación Cristiana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A través de la propia manifestación de Dios, es decir a través de la Bibli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C. Mediante la Acción Salvífica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Dios actúa en todas partes; hay posibilidad de que actúa también en uno mismo. Entonces se da partir de la experiencia personal, uno experimenta lo que puede hacer el poder Div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Dios como persona?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Sólo analógicamente pues no está sujeto a limitaciones -  tiempo y espacio – no está determinado por la individualidad (puede dirigirse a varios a la vez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900" spc="-1" strike="noStrike">
                <a:solidFill>
                  <a:srgbClr val="0070c0"/>
                </a:solidFill>
                <a:latin typeface="Gill Sans MT"/>
              </a:rPr>
              <a:t>Características Fundamentales de la Religión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57120" y="2000160"/>
            <a:ext cx="87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Sistema de Pensamientos y Creencias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Que otorgan un sentido a la doctrin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S. de Prácticas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Costumbres producto del consenso. Se asume un compromis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S. de Cosas Sagradas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Que producen en el hombre Veneración y Cul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Sistemas Compartidos por la Comunidad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Aspecto Social – eclesi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La Religión será por tal: Una Realidad TOT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La fe como presupuesto …ES…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“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Garantía de lo que se espera; la prueba de las realidades que no se ven” (Heb 11,1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 apoya en la certeza  y por la certeza el hombre es capaz de Di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l asentimiento libre a toda la verdad que Dios ha revelado (CC 150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Un acto auténticamente humano… En la fe inteligencia y voluntad… cooperan con la gracia Divina. Creer es un acto del entendimiento que asiente a la verdad divina por imperio de la voluntad… (CC 155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362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Gill Sans MT"/>
              </a:rPr>
              <a:t>¿Cómo reconoce el hombre a Dio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?</a:t>
            </a:r>
            <a:endParaRPr b="0" lang="en-US" sz="36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1424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Respecto a lo sagrado y el ri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Desde un punto de vista sociológic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Durkheim identifica lo sagrado a partir del totemismo. E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 su opinión el tótem es considerado como representación de una búsqueda soci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o sagrado para el es considerado como el  reconocimiento del 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mana (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fuerza colectiva que trasciende el esfuerzo individual  y se ubica como potencia sagrada). En cambio lo profano es solo resultado del esfuerzo individua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a vivencia del mana o 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fuerza grupal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al ser conmemorada o celebrada en ciertos lugares y ciertos modos inicia una tradición ritua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Características de la Fe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14200" y="142884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s respuesta del hombre a         D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s un Don (Virtud sobrenatural infundida por Dios CC 153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acto de Fe lleva Confianza y ésta da estabili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El acto de Fe es Escucha que conlleva OBEDIENCI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Es una Respuesta libre al llamado de Dios (Amor que es  Fie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70c0"/>
                </a:solidFill>
                <a:latin typeface="Gill Sans MT"/>
              </a:rPr>
              <a:t>CUALIDADES DE LA F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Fragil: Hay dudas – inestabili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Dinámica: En las horas difíciles mayor ha de s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Confiar: Es saber Mirar, escuchar – comprender el mensaje de Di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Viva: Interactúa con la Esperanza y la Cari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Alegre: Depende de la opción y no de lo que se hag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5840" y="56437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terpretaciones sobre el origen de la religión varían según las diversas concepciones filosóficas o científicas de los autores. </a:t>
            </a:r>
            <a:endParaRPr b="0" lang="en-US" sz="2400" spc="-1" strike="noStrike">
              <a:solidFill>
                <a:srgbClr val="3f4259"/>
              </a:solidFill>
              <a:latin typeface="Gill Sans MT"/>
            </a:endParaRPr>
          </a:p>
        </p:txBody>
      </p:sp>
      <p:pic>
        <p:nvPicPr>
          <p:cNvPr id="519" name="Organization Chart 5" descr=""/>
          <p:cNvPicPr/>
          <p:nvPr/>
        </p:nvPicPr>
        <p:blipFill>
          <a:blip r:embed="rId1"/>
          <a:stretch/>
        </p:blipFill>
        <p:spPr>
          <a:xfrm>
            <a:off x="103320" y="1249200"/>
            <a:ext cx="8869320" cy="4256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3"/>
          <p:cNvSpPr/>
          <p:nvPr/>
        </p:nvSpPr>
        <p:spPr>
          <a:xfrm>
            <a:off x="1143000" y="285840"/>
            <a:ext cx="7497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Gill Sans MT"/>
              </a:rPr>
              <a:t>Interpretes adversos a la Relig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Organization Chart 5"/>
          <p:cNvGrpSpPr/>
          <p:nvPr/>
        </p:nvGrpSpPr>
        <p:grpSpPr>
          <a:xfrm>
            <a:off x="3170160" y="758880"/>
            <a:ext cx="5437080" cy="5505480"/>
            <a:chOff x="3170160" y="758880"/>
            <a:chExt cx="5437080" cy="5505480"/>
          </a:xfrm>
        </p:grpSpPr>
        <p:cxnSp>
          <p:nvCxnSpPr>
            <p:cNvPr id="522" name="_s1028"/>
            <p:cNvCxnSpPr>
              <a:stCxn id="523" idx="1"/>
              <a:endCxn id="524" idx="2"/>
            </p:cNvCxnSpPr>
            <p:nvPr/>
          </p:nvCxnSpPr>
          <p:spPr>
            <a:xfrm rot="10800000">
              <a:off x="4934520" y="1215360"/>
              <a:ext cx="126360" cy="4321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5" name="_s1029"/>
            <p:cNvCxnSpPr>
              <a:stCxn id="526" idx="1"/>
              <a:endCxn id="524" idx="2"/>
            </p:cNvCxnSpPr>
            <p:nvPr/>
          </p:nvCxnSpPr>
          <p:spPr>
            <a:xfrm rot="10800000">
              <a:off x="4933080" y="1215360"/>
              <a:ext cx="129240" cy="263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7" name="_s1030"/>
            <p:cNvCxnSpPr>
              <a:stCxn id="528" idx="1"/>
              <a:endCxn id="524" idx="2"/>
            </p:cNvCxnSpPr>
            <p:nvPr/>
          </p:nvCxnSpPr>
          <p:spPr>
            <a:xfrm rot="10800000">
              <a:off x="4933080" y="1215360"/>
              <a:ext cx="129240" cy="95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4" name="_s1031"/>
            <p:cNvSpPr/>
            <p:nvPr/>
          </p:nvSpPr>
          <p:spPr>
            <a:xfrm>
              <a:off x="3170160" y="758880"/>
              <a:ext cx="3529080" cy="4572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EVOLUCION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_s1032"/>
            <p:cNvSpPr/>
            <p:nvPr/>
          </p:nvSpPr>
          <p:spPr>
            <a:xfrm>
              <a:off x="5062320" y="1444680"/>
              <a:ext cx="3544920" cy="145404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pirado en la o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 Charles Darw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_s1033"/>
            <p:cNvSpPr/>
            <p:nvPr/>
          </p:nvSpPr>
          <p:spPr>
            <a:xfrm>
              <a:off x="5062320" y="3127320"/>
              <a:ext cx="3544920" cy="145440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tiene que el hom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medida que evoluci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recienta progresivam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 mundo religio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1034"/>
            <p:cNvSpPr/>
            <p:nvPr/>
          </p:nvSpPr>
          <p:spPr>
            <a:xfrm>
              <a:off x="5060880" y="4810320"/>
              <a:ext cx="3544920" cy="1454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mundo esta en constan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olución por el paso a 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iencia del hom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2" descr="http://farm3.static.flickr.com/2185/2352531651_571889d6b5.jpg"/>
          <p:cNvPicPr/>
          <p:nvPr/>
        </p:nvPicPr>
        <p:blipFill>
          <a:blip r:embed="rId1"/>
          <a:stretch/>
        </p:blipFill>
        <p:spPr>
          <a:xfrm>
            <a:off x="1214280" y="1714680"/>
            <a:ext cx="3024360" cy="2881080"/>
          </a:xfrm>
          <a:prstGeom prst="rect">
            <a:avLst/>
          </a:prstGeom>
          <a:ln w="0">
            <a:noFill/>
          </a:ln>
        </p:spPr>
      </p:pic>
      <p:sp>
        <p:nvSpPr>
          <p:cNvPr id="530" name="1 Rectángulo redondeado"/>
          <p:cNvSpPr/>
          <p:nvPr/>
        </p:nvSpPr>
        <p:spPr>
          <a:xfrm>
            <a:off x="1143000" y="4786200"/>
            <a:ext cx="3024360" cy="158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agen de la pelí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En busca del fuego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Diagram 5"/>
          <p:cNvGrpSpPr/>
          <p:nvPr/>
        </p:nvGrpSpPr>
        <p:grpSpPr>
          <a:xfrm>
            <a:off x="324000" y="333360"/>
            <a:ext cx="8505000" cy="6203520"/>
            <a:chOff x="324000" y="333360"/>
            <a:chExt cx="8505000" cy="6203520"/>
          </a:xfrm>
        </p:grpSpPr>
        <p:sp>
          <p:nvSpPr>
            <p:cNvPr id="532" name="_s2052"/>
            <p:cNvSpPr/>
            <p:nvPr/>
          </p:nvSpPr>
          <p:spPr>
            <a:xfrm>
              <a:off x="3708360" y="1215360"/>
              <a:ext cx="2179440" cy="2520720"/>
            </a:xfrm>
            <a:prstGeom prst="ellipse">
              <a:avLst/>
            </a:prstGeom>
            <a:solidFill>
              <a:srgbClr val="438086">
                <a:alpha val="50000"/>
              </a:srgbClr>
            </a:solidFill>
            <a:ln w="468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2053"/>
            <p:cNvSpPr/>
            <p:nvPr/>
          </p:nvSpPr>
          <p:spPr>
            <a:xfrm>
              <a:off x="3299760" y="333360"/>
              <a:ext cx="21787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RACIONAL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2054"/>
            <p:cNvSpPr/>
            <p:nvPr/>
          </p:nvSpPr>
          <p:spPr>
            <a:xfrm>
              <a:off x="4576320" y="2214720"/>
              <a:ext cx="2179440" cy="2520720"/>
            </a:xfrm>
            <a:prstGeom prst="ellipse">
              <a:avLst/>
            </a:prstGeom>
            <a:solidFill>
              <a:srgbClr val="67afbd">
                <a:alpha val="50000"/>
              </a:srgbClr>
            </a:solidFill>
            <a:ln w="468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2055"/>
            <p:cNvSpPr/>
            <p:nvPr/>
          </p:nvSpPr>
          <p:spPr>
            <a:xfrm>
              <a:off x="5785920" y="2214720"/>
              <a:ext cx="3043080" cy="21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razón se ve oblig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buscar una expl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cional a los profun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sterios de la vid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um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2056"/>
            <p:cNvSpPr/>
            <p:nvPr/>
          </p:nvSpPr>
          <p:spPr>
            <a:xfrm>
              <a:off x="3972960" y="3200040"/>
              <a:ext cx="2178720" cy="2520720"/>
            </a:xfrm>
            <a:prstGeom prst="ellipse">
              <a:avLst/>
            </a:prstGeom>
            <a:solidFill>
              <a:srgbClr val="c2a874">
                <a:alpha val="50000"/>
              </a:srgbClr>
            </a:solidFill>
            <a:ln w="468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2057"/>
            <p:cNvSpPr/>
            <p:nvPr/>
          </p:nvSpPr>
          <p:spPr>
            <a:xfrm>
              <a:off x="3299760" y="4900320"/>
              <a:ext cx="2178720" cy="16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lica el origen de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ón como un produ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do por la propia raz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2058"/>
            <p:cNvSpPr/>
            <p:nvPr/>
          </p:nvSpPr>
          <p:spPr>
            <a:xfrm>
              <a:off x="2482560" y="2247840"/>
              <a:ext cx="2179440" cy="2520720"/>
            </a:xfrm>
            <a:prstGeom prst="ellipse">
              <a:avLst/>
            </a:prstGeom>
            <a:solidFill>
              <a:srgbClr val="dedede">
                <a:alpha val="50000"/>
              </a:srgbClr>
            </a:solidFill>
            <a:ln w="468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2059"/>
            <p:cNvSpPr/>
            <p:nvPr/>
          </p:nvSpPr>
          <p:spPr>
            <a:xfrm>
              <a:off x="324000" y="3134160"/>
              <a:ext cx="21794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cionalistas acepta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existencia de un fon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oso grabado en 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ma humana al que llama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religión natural o deí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Diagram 5"/>
          <p:cNvGrpSpPr/>
          <p:nvPr/>
        </p:nvGrpSpPr>
        <p:grpSpPr>
          <a:xfrm>
            <a:off x="324000" y="642960"/>
            <a:ext cx="8385840" cy="4514400"/>
            <a:chOff x="324000" y="642960"/>
            <a:chExt cx="8385840" cy="4514400"/>
          </a:xfrm>
        </p:grpSpPr>
        <p:sp>
          <p:nvSpPr>
            <p:cNvPr id="541" name="_s3076"/>
            <p:cNvSpPr/>
            <p:nvPr/>
          </p:nvSpPr>
          <p:spPr>
            <a:xfrm>
              <a:off x="3553560" y="1266840"/>
              <a:ext cx="2181240" cy="1842840"/>
            </a:xfrm>
            <a:prstGeom prst="ellipse">
              <a:avLst/>
            </a:prstGeom>
            <a:solidFill>
              <a:srgbClr val="438086">
                <a:alpha val="50000"/>
              </a:srgbClr>
            </a:solidFill>
            <a:ln w="468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3077"/>
            <p:cNvSpPr/>
            <p:nvPr/>
          </p:nvSpPr>
          <p:spPr>
            <a:xfrm>
              <a:off x="3071160" y="642960"/>
              <a:ext cx="322956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MARX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3078"/>
            <p:cNvSpPr/>
            <p:nvPr/>
          </p:nvSpPr>
          <p:spPr>
            <a:xfrm>
              <a:off x="4383720" y="1968480"/>
              <a:ext cx="2181240" cy="1842840"/>
            </a:xfrm>
            <a:prstGeom prst="ellipse">
              <a:avLst/>
            </a:prstGeom>
            <a:solidFill>
              <a:srgbClr val="67afbd">
                <a:alpha val="50000"/>
              </a:srgbClr>
            </a:solidFill>
            <a:ln w="468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3079"/>
            <p:cNvSpPr/>
            <p:nvPr/>
          </p:nvSpPr>
          <p:spPr>
            <a:xfrm>
              <a:off x="5785560" y="2214360"/>
              <a:ext cx="2924280" cy="17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idera que la relig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 una estructura 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pitalismo con el fi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ner dominada la cla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leta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_s3080"/>
            <p:cNvSpPr/>
            <p:nvPr/>
          </p:nvSpPr>
          <p:spPr>
            <a:xfrm>
              <a:off x="3553560" y="2676600"/>
              <a:ext cx="2181240" cy="1842840"/>
            </a:xfrm>
            <a:prstGeom prst="ellipse">
              <a:avLst/>
            </a:prstGeom>
            <a:solidFill>
              <a:srgbClr val="c2a874">
                <a:alpha val="50000"/>
              </a:srgbClr>
            </a:solidFill>
            <a:ln w="468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_s3081"/>
            <p:cNvSpPr/>
            <p:nvPr/>
          </p:nvSpPr>
          <p:spPr>
            <a:xfrm>
              <a:off x="3553560" y="4696560"/>
              <a:ext cx="21812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 expresión más grafica es 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La religión es el opio del pueb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_s3082"/>
            <p:cNvSpPr/>
            <p:nvPr/>
          </p:nvSpPr>
          <p:spPr>
            <a:xfrm>
              <a:off x="2723040" y="1968480"/>
              <a:ext cx="2181240" cy="1842840"/>
            </a:xfrm>
            <a:prstGeom prst="ellipse">
              <a:avLst/>
            </a:prstGeom>
            <a:solidFill>
              <a:srgbClr val="c2a874">
                <a:alpha val="50000"/>
              </a:srgbClr>
            </a:solidFill>
            <a:ln w="468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_s3083"/>
            <p:cNvSpPr/>
            <p:nvPr/>
          </p:nvSpPr>
          <p:spPr>
            <a:xfrm>
              <a:off x="324000" y="2659680"/>
              <a:ext cx="32295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800" spc="-1" strike="noStrike">
                  <a:solidFill>
                    <a:srgbClr val="cc00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ulado por Karl Mar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15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dee9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i todas estas teorías –superadas desde el punto de  vista científico- siguen teniendo c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gencia como tópicos o prejuicios, y a menudo se repiten en periódicos, revist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s de televisió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versas ciencias enseñan que existen caminos de acceso a Dios, como una realidad sobre la que la inteligencia humana tiene mucho que 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xperiencia de numerosos hombres de ciencia, muestra que la razón humana no se detiene ante respuestas poco coherent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cadena de los “por qués” surge la interrogación sobre Dios. ¿Puede la razón humana alcanzar a Dios?, ¿Tiene potencia suficiente para decir algo sobre un Ser que le trasciende?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storia del pensamiento muestra que el ser humano llega a Dios no solo como explicación última del mundo, sino por exigencias íntimas de su propia vi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28760" y="2000160"/>
            <a:ext cx="374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que inquieta al hom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su propi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219640" y="2421000"/>
            <a:ext cx="3600360" cy="1224000"/>
          </a:xfrm>
          <a:prstGeom prst="ellipse">
            <a:avLst/>
          </a:prstGeom>
          <a:solidFill>
            <a:srgbClr val="dee9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donde veni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3203640" y="3789360"/>
            <a:ext cx="5400720" cy="1511280"/>
          </a:xfrm>
          <a:prstGeom prst="ellipse">
            <a:avLst/>
          </a:prstGeom>
          <a:solidFill>
            <a:srgbClr val="dee9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sentido tienen el dolor y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rimi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324000" y="5300640"/>
            <a:ext cx="4895640" cy="1224000"/>
          </a:xfrm>
          <a:prstGeom prst="ellipse">
            <a:avLst/>
          </a:prstGeom>
          <a:solidFill>
            <a:srgbClr val="dee9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y después de la m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AutoShape 8"/>
          <p:cNvGrpSpPr/>
          <p:nvPr/>
        </p:nvGrpSpPr>
        <p:grpSpPr>
          <a:xfrm>
            <a:off x="4187880" y="2968560"/>
            <a:ext cx="841320" cy="420840"/>
            <a:chOff x="4187880" y="2968560"/>
            <a:chExt cx="841320" cy="420840"/>
          </a:xfrm>
        </p:grpSpPr>
        <p:pic>
          <p:nvPicPr>
            <p:cNvPr id="557" name="AutoShape 8" descr=""/>
            <p:cNvPicPr/>
            <p:nvPr/>
          </p:nvPicPr>
          <p:blipFill>
            <a:blip r:embed="rId1"/>
            <a:stretch/>
          </p:blipFill>
          <p:spPr>
            <a:xfrm>
              <a:off x="4187880" y="2968560"/>
              <a:ext cx="84132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4335480" y="3087720"/>
              <a:ext cx="5698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AutoShape 10"/>
          <p:cNvGrpSpPr/>
          <p:nvPr/>
        </p:nvGrpSpPr>
        <p:grpSpPr>
          <a:xfrm>
            <a:off x="1951200" y="3693960"/>
            <a:ext cx="560160" cy="1414440"/>
            <a:chOff x="1951200" y="3693960"/>
            <a:chExt cx="560160" cy="1414440"/>
          </a:xfrm>
        </p:grpSpPr>
        <p:pic>
          <p:nvPicPr>
            <p:cNvPr id="560" name="AutoShape 10" descr=""/>
            <p:cNvPicPr/>
            <p:nvPr/>
          </p:nvPicPr>
          <p:blipFill>
            <a:blip r:embed="rId2"/>
            <a:stretch/>
          </p:blipFill>
          <p:spPr>
            <a:xfrm>
              <a:off x="1951200" y="3693960"/>
              <a:ext cx="5601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2106720" y="3716280"/>
              <a:ext cx="25236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1 Flecha abajo"/>
          <p:cNvGrpSpPr/>
          <p:nvPr/>
        </p:nvGrpSpPr>
        <p:grpSpPr>
          <a:xfrm>
            <a:off x="3408480" y="3340080"/>
            <a:ext cx="388800" cy="677880"/>
            <a:chOff x="3408480" y="3340080"/>
            <a:chExt cx="388800" cy="677880"/>
          </a:xfrm>
        </p:grpSpPr>
        <p:pic>
          <p:nvPicPr>
            <p:cNvPr id="563" name="1 Flecha abajo" descr=""/>
            <p:cNvPicPr/>
            <p:nvPr/>
          </p:nvPicPr>
          <p:blipFill>
            <a:blip r:embed="rId3"/>
            <a:stretch/>
          </p:blipFill>
          <p:spPr>
            <a:xfrm>
              <a:off x="3408480" y="3340080"/>
              <a:ext cx="3888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3510000" y="3357720"/>
              <a:ext cx="1792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Organization Chart 5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cxnSp>
          <p:nvCxnSpPr>
            <p:cNvPr id="566" name="_s1028"/>
            <p:cNvCxnSpPr>
              <a:stCxn id="567" idx="0"/>
              <a:endCxn id="568" idx="2"/>
            </p:cNvCxnSpPr>
            <p:nvPr/>
          </p:nvCxnSpPr>
          <p:spPr>
            <a:xfrm flipV="1" rot="16200000">
              <a:off x="6297480" y="4105440"/>
              <a:ext cx="286920" cy="1915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29"/>
            <p:cNvCxnSpPr>
              <a:stCxn id="570" idx="0"/>
              <a:endCxn id="568" idx="2"/>
            </p:cNvCxnSpPr>
            <p:nvPr/>
          </p:nvCxnSpPr>
          <p:spPr>
            <a:xfrm flipH="1" flipV="1" rot="5400000">
              <a:off x="4383000" y="4105440"/>
              <a:ext cx="286920" cy="1915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0"/>
            <p:cNvCxnSpPr>
              <a:stCxn id="568" idx="1"/>
              <a:endCxn id="572" idx="2"/>
            </p:cNvCxnSpPr>
            <p:nvPr/>
          </p:nvCxnSpPr>
          <p:spPr>
            <a:xfrm rot="10800000">
              <a:off x="1489680" y="635400"/>
              <a:ext cx="687960" cy="371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1"/>
            <p:cNvCxnSpPr>
              <a:stCxn id="574" idx="1"/>
              <a:endCxn id="572" idx="2"/>
            </p:cNvCxnSpPr>
            <p:nvPr/>
          </p:nvCxnSpPr>
          <p:spPr>
            <a:xfrm rot="10800000">
              <a:off x="1489680" y="635400"/>
              <a:ext cx="687960" cy="228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2"/>
            <p:cNvCxnSpPr>
              <a:stCxn id="576" idx="1"/>
              <a:endCxn id="572" idx="2"/>
            </p:cNvCxnSpPr>
            <p:nvPr/>
          </p:nvCxnSpPr>
          <p:spPr>
            <a:xfrm rot="10800000">
              <a:off x="1489680" y="635400"/>
              <a:ext cx="687960" cy="85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2" name="_s1033"/>
            <p:cNvSpPr/>
            <p:nvPr/>
          </p:nvSpPr>
          <p:spPr>
            <a:xfrm>
              <a:off x="0" y="0"/>
              <a:ext cx="2981520" cy="636120"/>
            </a:xfrm>
            <a:prstGeom prst="roundRect">
              <a:avLst>
                <a:gd name="adj" fmla="val 16667"/>
              </a:avLst>
            </a:prstGeom>
            <a:solidFill>
              <a:srgbClr val="ecde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HOM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4"/>
            <p:cNvSpPr/>
            <p:nvPr/>
          </p:nvSpPr>
          <p:spPr>
            <a:xfrm>
              <a:off x="2177280" y="922680"/>
              <a:ext cx="6613200" cy="1141560"/>
            </a:xfrm>
            <a:prstGeom prst="roundRect">
              <a:avLst>
                <a:gd name="adj" fmla="val 16667"/>
              </a:avLst>
            </a:prstGeom>
            <a:solidFill>
              <a:srgbClr val="dee9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encuentra respuestas en l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uraleza fís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35"/>
            <p:cNvSpPr/>
            <p:nvPr/>
          </p:nvSpPr>
          <p:spPr>
            <a:xfrm>
              <a:off x="2177280" y="2350800"/>
              <a:ext cx="6613200" cy="1141560"/>
            </a:xfrm>
            <a:prstGeom prst="roundRect">
              <a:avLst>
                <a:gd name="adj" fmla="val 16667"/>
              </a:avLst>
            </a:prstGeom>
            <a:solidFill>
              <a:srgbClr val="dee9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vuelve sobre s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36"/>
            <p:cNvSpPr/>
            <p:nvPr/>
          </p:nvSpPr>
          <p:spPr>
            <a:xfrm>
              <a:off x="2177280" y="3778920"/>
              <a:ext cx="6613200" cy="11415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experiencia interior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37"/>
            <p:cNvSpPr/>
            <p:nvPr/>
          </p:nvSpPr>
          <p:spPr>
            <a:xfrm>
              <a:off x="1824120" y="5206680"/>
              <a:ext cx="3492000" cy="16506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lleva a super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ámbito de 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mediato y sensori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_s1038"/>
            <p:cNvSpPr/>
            <p:nvPr/>
          </p:nvSpPr>
          <p:spPr>
            <a:xfrm>
              <a:off x="5650920" y="5206680"/>
              <a:ext cx="3492360" cy="16506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invita a entrar en e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ndo de lo espiritu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Organization Chart 5"/>
          <p:cNvGrpSpPr/>
          <p:nvPr/>
        </p:nvGrpSpPr>
        <p:grpSpPr>
          <a:xfrm>
            <a:off x="324000" y="476280"/>
            <a:ext cx="8819280" cy="6139080"/>
            <a:chOff x="324000" y="476280"/>
            <a:chExt cx="8819280" cy="6139080"/>
          </a:xfrm>
        </p:grpSpPr>
        <p:cxnSp>
          <p:nvCxnSpPr>
            <p:cNvPr id="578" name="_s2052"/>
            <p:cNvCxnSpPr>
              <a:stCxn id="579" idx="1"/>
              <a:endCxn id="580" idx="2"/>
            </p:cNvCxnSpPr>
            <p:nvPr/>
          </p:nvCxnSpPr>
          <p:spPr>
            <a:xfrm rot="10800000">
              <a:off x="2407680" y="2369880"/>
              <a:ext cx="488520" cy="25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0" name="_s2053"/>
            <p:cNvSpPr/>
            <p:nvPr/>
          </p:nvSpPr>
          <p:spPr>
            <a:xfrm>
              <a:off x="324000" y="476280"/>
              <a:ext cx="4169160" cy="189360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HOM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_s2054"/>
            <p:cNvSpPr/>
            <p:nvPr/>
          </p:nvSpPr>
          <p:spPr>
            <a:xfrm>
              <a:off x="2896560" y="3221280"/>
              <a:ext cx="6246720" cy="339408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 el mundo de 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piritual descubr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30"/>
          <p:cNvSpPr/>
          <p:nvPr/>
        </p:nvSpPr>
        <p:spPr>
          <a:xfrm>
            <a:off x="539640" y="3284640"/>
            <a:ext cx="1871640" cy="57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el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1"/>
          <p:cNvSpPr/>
          <p:nvPr/>
        </p:nvSpPr>
        <p:spPr>
          <a:xfrm>
            <a:off x="3276720" y="3645000"/>
            <a:ext cx="2590560" cy="57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da 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2"/>
          <p:cNvSpPr/>
          <p:nvPr/>
        </p:nvSpPr>
        <p:spPr>
          <a:xfrm>
            <a:off x="6300720" y="3429000"/>
            <a:ext cx="2232000" cy="576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3"/>
          <p:cNvSpPr/>
          <p:nvPr/>
        </p:nvSpPr>
        <p:spPr>
          <a:xfrm>
            <a:off x="611280" y="4869000"/>
            <a:ext cx="8137440" cy="792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xperiencia profunda de una religación con un 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, a quien llamamos 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4"/>
          <p:cNvSpPr/>
          <p:nvPr/>
        </p:nvSpPr>
        <p:spPr>
          <a:xfrm flipH="1">
            <a:off x="2411280" y="2997360"/>
            <a:ext cx="1440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5"/>
          <p:cNvSpPr/>
          <p:nvPr/>
        </p:nvSpPr>
        <p:spPr>
          <a:xfrm>
            <a:off x="478800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6"/>
          <p:cNvSpPr/>
          <p:nvPr/>
        </p:nvSpPr>
        <p:spPr>
          <a:xfrm>
            <a:off x="6659640" y="3141720"/>
            <a:ext cx="7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7"/>
          <p:cNvSpPr/>
          <p:nvPr/>
        </p:nvSpPr>
        <p:spPr>
          <a:xfrm>
            <a:off x="6012000" y="314172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xperiencia religiosa: es un camino de conocimiento y de descubrimiento de una realidad, que también se cumple en el conocimiento de Dios. </a:t>
            </a:r>
            <a:endParaRPr b="0" lang="en-US" sz="2400" spc="-1" strike="noStrike">
              <a:solidFill>
                <a:srgbClr val="3f4259"/>
              </a:solidFill>
              <a:latin typeface="Gill Sans MT"/>
            </a:endParaRPr>
          </a:p>
        </p:txBody>
      </p:sp>
      <p:grpSp>
        <p:nvGrpSpPr>
          <p:cNvPr id="590" name="Rectangle 19"/>
          <p:cNvGrpSpPr/>
          <p:nvPr/>
        </p:nvGrpSpPr>
        <p:grpSpPr>
          <a:xfrm>
            <a:off x="1122480" y="2048040"/>
            <a:ext cx="7819920" cy="1847520"/>
            <a:chOff x="1122480" y="2048040"/>
            <a:chExt cx="7819920" cy="1847520"/>
          </a:xfrm>
        </p:grpSpPr>
        <p:pic>
          <p:nvPicPr>
            <p:cNvPr id="591" name="Rectangle 19" descr=""/>
            <p:cNvPicPr/>
            <p:nvPr/>
          </p:nvPicPr>
          <p:blipFill>
            <a:blip r:embed="rId1"/>
            <a:stretch/>
          </p:blipFill>
          <p:spPr>
            <a:xfrm>
              <a:off x="1122480" y="2048040"/>
              <a:ext cx="7819920" cy="18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143000" y="2071800"/>
              <a:ext cx="777708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e acceso del hombre a Dios es la experiencia religiosa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hecho de que hay personas que han experimentado a Dios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 son capaces de describir lo que han sentido en contac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 Dios e incluso han hablado con É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Oval 20"/>
          <p:cNvGrpSpPr/>
          <p:nvPr/>
        </p:nvGrpSpPr>
        <p:grpSpPr>
          <a:xfrm>
            <a:off x="1335240" y="4406760"/>
            <a:ext cx="7534080" cy="1914840"/>
            <a:chOff x="1335240" y="4406760"/>
            <a:chExt cx="7534080" cy="1914840"/>
          </a:xfrm>
        </p:grpSpPr>
        <p:pic>
          <p:nvPicPr>
            <p:cNvPr id="594" name="Oval 20" descr=""/>
            <p:cNvPicPr/>
            <p:nvPr/>
          </p:nvPicPr>
          <p:blipFill>
            <a:blip r:embed="rId2"/>
            <a:stretch/>
          </p:blipFill>
          <p:spPr>
            <a:xfrm>
              <a:off x="1335240" y="4406760"/>
              <a:ext cx="753408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2454120" y="4703760"/>
              <a:ext cx="529452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fenómeno religioso es tan decisivo en la v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ividual y social, no es ajeno a ninguna de l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reas de la existencia del homb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¿Qué es una religión?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1320" y="1357200"/>
            <a:ext cx="8504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Reconocimiento de una Realida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ciente efectiva y ABSOLUT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 la cual el hombre se siente totalmente dependiente 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a expresión huma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cho Universal que explica algo del homb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 hombre es siempre un ser Religioso. El hombre no busca la Religión sino su ser religioso; en este tránsito ha encontrado que los imperios siempre han querido destruirla pero sin éxi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66884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PUNTUALIZACIONES AL HECHO RELIGIOSO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pic>
        <p:nvPicPr>
          <p:cNvPr id="597" name="4 Imagen" descr="koinonia.jpg"/>
          <p:cNvPicPr/>
          <p:nvPr/>
        </p:nvPicPr>
        <p:blipFill>
          <a:blip r:embed="rId1"/>
          <a:stretch/>
        </p:blipFill>
        <p:spPr>
          <a:xfrm>
            <a:off x="2000160" y="357120"/>
            <a:ext cx="6357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LAS GRANDES PREGUNTAS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8400" y="1715760"/>
            <a:ext cx="8429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er religioso consiste en buscar, desde una vertiente sagrada, las respuestas a las grandes preguntas que todo ser humano se plantea sobre su existenci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Cuál es el origen del univers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Cuál es el origen del ser human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Qué sentido tiene su existenci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Es la muerte el final absoluto de l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vida humana o existe algo más allá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En qué consiste el bien y el mal?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0" name="4 Imagen" descr="pensador.jpeg"/>
          <p:cNvPicPr/>
          <p:nvPr/>
        </p:nvPicPr>
        <p:blipFill>
          <a:blip r:embed="rId1"/>
          <a:stretch/>
        </p:blipFill>
        <p:spPr>
          <a:xfrm>
            <a:off x="6786720" y="3714840"/>
            <a:ext cx="2071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1000080" y="571680"/>
            <a:ext cx="7934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3 Rectángulo redondeado"/>
          <p:cNvSpPr/>
          <p:nvPr/>
        </p:nvSpPr>
        <p:spPr>
          <a:xfrm>
            <a:off x="3786120" y="71424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7 Rectángulo redondeado"/>
          <p:cNvSpPr/>
          <p:nvPr/>
        </p:nvSpPr>
        <p:spPr>
          <a:xfrm>
            <a:off x="3571920" y="1928880"/>
            <a:ext cx="2357280" cy="642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8 Rectángulo redondeado"/>
          <p:cNvSpPr/>
          <p:nvPr/>
        </p:nvSpPr>
        <p:spPr>
          <a:xfrm>
            <a:off x="6357960" y="1285920"/>
            <a:ext cx="2500200" cy="714240"/>
          </a:xfrm>
          <a:prstGeom prst="roundRect">
            <a:avLst>
              <a:gd name="adj" fmla="val 16667"/>
            </a:avLst>
          </a:prstGeom>
          <a:solidFill>
            <a:srgbClr val="783a7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RELI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9 Elipse"/>
          <p:cNvSpPr/>
          <p:nvPr/>
        </p:nvSpPr>
        <p:spPr>
          <a:xfrm>
            <a:off x="3571920" y="3071880"/>
            <a:ext cx="2286000" cy="1000080"/>
          </a:xfrm>
          <a:prstGeom prst="ellipse">
            <a:avLst/>
          </a:prstGeom>
          <a:solidFill>
            <a:srgbClr val="6f6f6f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EXPERIENCIA RELIGI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10 Rectángulo redondeado"/>
          <p:cNvSpPr/>
          <p:nvPr/>
        </p:nvSpPr>
        <p:spPr>
          <a:xfrm>
            <a:off x="1785960" y="4929120"/>
            <a:ext cx="1357200" cy="928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1 Rectángulo redondeado"/>
          <p:cNvSpPr/>
          <p:nvPr/>
        </p:nvSpPr>
        <p:spPr>
          <a:xfrm>
            <a:off x="3786120" y="4929120"/>
            <a:ext cx="157176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LUGARES SA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2 Rectángulo redondeado"/>
          <p:cNvSpPr/>
          <p:nvPr/>
        </p:nvSpPr>
        <p:spPr>
          <a:xfrm>
            <a:off x="5500800" y="492912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13 Rectángulo redondeado"/>
          <p:cNvSpPr/>
          <p:nvPr/>
        </p:nvSpPr>
        <p:spPr>
          <a:xfrm>
            <a:off x="7000920" y="4929120"/>
            <a:ext cx="15001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TIEMPOS SA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14 Rectángulo redondeado"/>
          <p:cNvSpPr/>
          <p:nvPr/>
        </p:nvSpPr>
        <p:spPr>
          <a:xfrm>
            <a:off x="7000920" y="2643120"/>
            <a:ext cx="1785960" cy="1143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Da elementos y vivencias que dan sentido 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16 Conector recto de flecha"/>
          <p:cNvCxnSpPr/>
          <p:nvPr/>
        </p:nvCxnSpPr>
        <p:spPr>
          <a:xfrm flipH="1">
            <a:off x="4785480" y="1428840"/>
            <a:ext cx="2520" cy="42912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2" name="18 Conector recto de flecha"/>
          <p:cNvCxnSpPr/>
          <p:nvPr/>
        </p:nvCxnSpPr>
        <p:spPr>
          <a:xfrm flipH="1">
            <a:off x="4785480" y="2643120"/>
            <a:ext cx="2520" cy="3578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3" name="20 Conector recto de flecha"/>
          <p:cNvCxnSpPr/>
          <p:nvPr/>
        </p:nvCxnSpPr>
        <p:spPr>
          <a:xfrm flipH="1">
            <a:off x="7929000" y="2071440"/>
            <a:ext cx="1080" cy="5007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4" name="22 Conector recto de flecha"/>
          <p:cNvCxnSpPr/>
          <p:nvPr/>
        </p:nvCxnSpPr>
        <p:spPr>
          <a:xfrm>
            <a:off x="5071680" y="1643040"/>
            <a:ext cx="1143720" cy="21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5" name="25 Conector recto de flecha"/>
          <p:cNvCxnSpPr>
            <a:stCxn id="605" idx="4"/>
          </p:cNvCxnSpPr>
          <p:nvPr/>
        </p:nvCxnSpPr>
        <p:spPr>
          <a:xfrm flipH="1">
            <a:off x="2714400" y="4071600"/>
            <a:ext cx="2000880" cy="7866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6" name="27 Conector recto de flecha"/>
          <p:cNvCxnSpPr/>
          <p:nvPr/>
        </p:nvCxnSpPr>
        <p:spPr>
          <a:xfrm flipH="1">
            <a:off x="4642560" y="4145040"/>
            <a:ext cx="73800" cy="7135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7" name="29 Conector recto de flecha"/>
          <p:cNvCxnSpPr>
            <a:stCxn id="605" idx="4"/>
            <a:endCxn id="608" idx="0"/>
          </p:cNvCxnSpPr>
          <p:nvPr/>
        </p:nvCxnSpPr>
        <p:spPr>
          <a:xfrm>
            <a:off x="4714920" y="4071600"/>
            <a:ext cx="1394640" cy="8578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8" name="32 Conector recto de flecha"/>
          <p:cNvCxnSpPr>
            <a:stCxn id="605" idx="4"/>
            <a:endCxn id="609" idx="0"/>
          </p:cNvCxnSpPr>
          <p:nvPr/>
        </p:nvCxnSpPr>
        <p:spPr>
          <a:xfrm>
            <a:off x="4714920" y="4071600"/>
            <a:ext cx="3037680" cy="8578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619" name="34 Rectángulo redondeado"/>
          <p:cNvSpPr/>
          <p:nvPr/>
        </p:nvSpPr>
        <p:spPr>
          <a:xfrm>
            <a:off x="1214280" y="3286080"/>
            <a:ext cx="2000520" cy="6429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Hech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Suceso - viv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36 Conector recto de flecha"/>
          <p:cNvCxnSpPr>
            <a:stCxn id="605" idx="2"/>
          </p:cNvCxnSpPr>
          <p:nvPr/>
        </p:nvCxnSpPr>
        <p:spPr>
          <a:xfrm flipH="1" flipV="1">
            <a:off x="3285720" y="3571560"/>
            <a:ext cx="286560" cy="21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900" spc="-1" strike="noStrike">
                <a:solidFill>
                  <a:srgbClr val="383c60"/>
                </a:solidFill>
                <a:latin typeface="Gill Sans MT"/>
              </a:rPr>
              <a:t>ACTITUDES FRENTE A LA RELIGIÓN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28400" y="1285560"/>
            <a:ext cx="8358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Gill Sans MT"/>
              </a:rPr>
              <a:t>Religiosa: “Creyente afirma que Dios existe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Acepta la Respuesta que da la Religió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s-BO" sz="3000" spc="-1" strike="noStrike">
                <a:solidFill>
                  <a:srgbClr val="ff0000"/>
                </a:solidFill>
                <a:latin typeface="Gill Sans MT"/>
              </a:rPr>
              <a:t>- </a:t>
            </a:r>
            <a:r>
              <a:rPr b="0" lang="es-BO" sz="30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s-BO" sz="3000" spc="-1" strike="noStrike">
                <a:solidFill>
                  <a:srgbClr val="000000"/>
                </a:solidFill>
                <a:latin typeface="Gill Sans MT"/>
              </a:rPr>
              <a:t>Se relaciona con Dio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Atea: “Niega la existencia de Dios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Gill Sans MT"/>
              </a:rPr>
              <a:t>Todo se limita a la información de los sentido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Agnóstica: “No afirma ni niega la existencia de Dios”</a:t>
            </a:r>
            <a:r>
              <a:rPr b="1" lang="es-ES" sz="30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Religión sin respuesta convincen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Hombre imposibilitado de develar el misterio del sentido de la vi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Se abstiene de buscar respues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Indiferente (secular): “Despreocupado por él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Vive sin atender a las preguntas esenci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ELEMENTOS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57280" y="1285560"/>
            <a:ext cx="83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DIOS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Divinidad – ser supremo – misterio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espíritu – etc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Realidad Anterior muy superior al hombre – distinto – eterno – sagra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La persona Religiosa: Se siente cercana a él – intim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Con presencia real indemostrable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Las Mediaciones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Acciones que realiza la persona religiosa para ponerse en contacto – presencia con dios – lo divino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ELEMENTOS ….. (cont. 1)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843120" y="1642680"/>
            <a:ext cx="8300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Las mediaciones…. (continuación)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Lugares sagr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Ceremonias – ri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Moral (mandatos dados por la divinida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Mitos religios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Silencio – Meditació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Fenómenos Naturales en los que lo encuent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Acontecimientos de la vida en los que lo experime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ELEMENTOS … (cont. 2)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142640" y="2000160"/>
            <a:ext cx="7729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ACTITUD RELIGIOSA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Se manifiesta e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Aceptar a Dios – relacionarse con É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Aceptar – Reconocer a Dios que llama – atrae – acompaña - 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Organiza la vida desde É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383c60"/>
                </a:solidFill>
                <a:latin typeface="Gill Sans MT"/>
              </a:rPr>
              <a:t>Mito – Magia – Superstición  - Idolatría 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57280" y="1285560"/>
            <a:ext cx="83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Mito Religioso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Relato en el que aparece”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Dios – los hombres – la natural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Como respuesta a preguntas religios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Magia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Conjunto de actos cuya intención es dominar las fuerzas ocultas o divinas para beneficio propio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El mago “somete los poderes superiores y los hace instrumento en sus man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8077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Mito – Magia … (Continuación)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57280" y="1285560"/>
            <a:ext cx="83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6040" indent="-19800" algn="just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Superstición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Creer en algo superior el qu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Puede favorecerl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Puede castigarl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6040" indent="-19800" algn="just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Idolatría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Considera Dios a aquello que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no lo es”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Personas – Seres inmanentes –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Frente a él se imponen las relaciones d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591120" indent="-19800" algn="just">
              <a:lnSpc>
                <a:spcPct val="90000"/>
              </a:lnSpc>
              <a:spcBef>
                <a:spcPts val="649"/>
              </a:spcBef>
              <a:buClr>
                <a:srgbClr val="438086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Someti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591120" indent="-19800" algn="just">
              <a:lnSpc>
                <a:spcPct val="90000"/>
              </a:lnSpc>
              <a:spcBef>
                <a:spcPts val="649"/>
              </a:spcBef>
              <a:buClr>
                <a:srgbClr val="438086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Depend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591120" indent="-19800" algn="just">
              <a:lnSpc>
                <a:spcPct val="90000"/>
              </a:lnSpc>
              <a:spcBef>
                <a:spcPts val="649"/>
              </a:spcBef>
              <a:buClr>
                <a:srgbClr val="438086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Pseudo Adora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LAS GRANDES PREGUNTAS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57120" y="1715760"/>
            <a:ext cx="842976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La religión se centra en las grandes cuestiones  que preocupan al ser hum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La creación del mundo y del ser hum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El significado de la vida y de la muer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El comportamiento ético y la felicidad pers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5" name="3 Imagen" descr="universo.jpeg"/>
          <p:cNvPicPr/>
          <p:nvPr/>
        </p:nvPicPr>
        <p:blipFill>
          <a:blip r:embed="rId1"/>
          <a:stretch/>
        </p:blipFill>
        <p:spPr>
          <a:xfrm>
            <a:off x="3286080" y="4714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6" name="4 Imagen" descr="miguel angel.jpeg"/>
          <p:cNvPicPr/>
          <p:nvPr/>
        </p:nvPicPr>
        <p:blipFill>
          <a:blip r:embed="rId2"/>
          <a:stretch/>
        </p:blipFill>
        <p:spPr>
          <a:xfrm>
            <a:off x="6143760" y="4786200"/>
            <a:ext cx="2685960" cy="1695600"/>
          </a:xfrm>
          <a:prstGeom prst="rect">
            <a:avLst/>
          </a:prstGeom>
          <a:ln w="0">
            <a:noFill/>
          </a:ln>
        </p:spPr>
      </p:pic>
      <p:pic>
        <p:nvPicPr>
          <p:cNvPr id="637" name="5 Imagen" descr="creacion egipcia.jpeg"/>
          <p:cNvPicPr/>
          <p:nvPr/>
        </p:nvPicPr>
        <p:blipFill>
          <a:blip r:embed="rId3"/>
          <a:stretch/>
        </p:blipFill>
        <p:spPr>
          <a:xfrm>
            <a:off x="571680" y="48578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68360" y="476280"/>
            <a:ext cx="8207280" cy="1152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UNIVERSALIDAD DEL FENOMENO RELIG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Line 5" descr=""/>
          <p:cNvPicPr/>
          <p:nvPr/>
        </p:nvPicPr>
        <p:blipFill>
          <a:blip r:embed="rId1"/>
          <a:stretch/>
        </p:blipFill>
        <p:spPr>
          <a:xfrm>
            <a:off x="817560" y="1573200"/>
            <a:ext cx="676440" cy="2827440"/>
          </a:xfrm>
          <a:prstGeom prst="rect">
            <a:avLst/>
          </a:prstGeom>
          <a:ln w="0">
            <a:noFill/>
          </a:ln>
        </p:spPr>
      </p:pic>
      <p:grpSp>
        <p:nvGrpSpPr>
          <p:cNvPr id="368" name="Rectangle 6"/>
          <p:cNvGrpSpPr/>
          <p:nvPr/>
        </p:nvGrpSpPr>
        <p:grpSpPr>
          <a:xfrm>
            <a:off x="165240" y="4280040"/>
            <a:ext cx="3200400" cy="749160"/>
            <a:chOff x="165240" y="4280040"/>
            <a:chExt cx="3200400" cy="749160"/>
          </a:xfrm>
        </p:grpSpPr>
        <p:pic>
          <p:nvPicPr>
            <p:cNvPr id="369" name="Rectangle 6" descr=""/>
            <p:cNvPicPr/>
            <p:nvPr/>
          </p:nvPicPr>
          <p:blipFill>
            <a:blip r:embed="rId2"/>
            <a:stretch/>
          </p:blipFill>
          <p:spPr>
            <a:xfrm>
              <a:off x="165240" y="4280040"/>
              <a:ext cx="32004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79280" y="4292640"/>
              <a:ext cx="3168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REMO OR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Line 7" descr=""/>
          <p:cNvPicPr/>
          <p:nvPr/>
        </p:nvPicPr>
        <p:blipFill>
          <a:blip r:embed="rId3"/>
          <a:stretch/>
        </p:blipFill>
        <p:spPr>
          <a:xfrm>
            <a:off x="2139840" y="1573200"/>
            <a:ext cx="304920" cy="1608120"/>
          </a:xfrm>
          <a:prstGeom prst="rect">
            <a:avLst/>
          </a:prstGeom>
          <a:ln w="0">
            <a:noFill/>
          </a:ln>
        </p:spPr>
      </p:pic>
      <p:grpSp>
        <p:nvGrpSpPr>
          <p:cNvPr id="372" name="Rectangle 8"/>
          <p:cNvGrpSpPr/>
          <p:nvPr/>
        </p:nvGrpSpPr>
        <p:grpSpPr>
          <a:xfrm>
            <a:off x="1603440" y="2981160"/>
            <a:ext cx="2913120" cy="822600"/>
            <a:chOff x="1603440" y="2981160"/>
            <a:chExt cx="2913120" cy="822600"/>
          </a:xfrm>
        </p:grpSpPr>
        <p:pic>
          <p:nvPicPr>
            <p:cNvPr id="373" name="Rectangle 8" descr=""/>
            <p:cNvPicPr/>
            <p:nvPr/>
          </p:nvPicPr>
          <p:blipFill>
            <a:blip r:embed="rId4"/>
            <a:stretch/>
          </p:blipFill>
          <p:spPr>
            <a:xfrm>
              <a:off x="1603440" y="2981160"/>
              <a:ext cx="291312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619280" y="2997360"/>
              <a:ext cx="2881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IENTE PRÓXI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Line 9" descr=""/>
          <p:cNvPicPr/>
          <p:nvPr/>
        </p:nvPicPr>
        <p:blipFill>
          <a:blip r:embed="rId5"/>
          <a:stretch/>
        </p:blipFill>
        <p:spPr>
          <a:xfrm>
            <a:off x="4084560" y="1573200"/>
            <a:ext cx="304920" cy="3621240"/>
          </a:xfrm>
          <a:prstGeom prst="rect">
            <a:avLst/>
          </a:prstGeom>
          <a:ln w="0">
            <a:noFill/>
          </a:ln>
        </p:spPr>
      </p:pic>
      <p:grpSp>
        <p:nvGrpSpPr>
          <p:cNvPr id="376" name="Rectangle 11"/>
          <p:cNvGrpSpPr/>
          <p:nvPr/>
        </p:nvGrpSpPr>
        <p:grpSpPr>
          <a:xfrm>
            <a:off x="3767040" y="5072040"/>
            <a:ext cx="2043360" cy="676440"/>
            <a:chOff x="3767040" y="5072040"/>
            <a:chExt cx="2043360" cy="676440"/>
          </a:xfrm>
        </p:grpSpPr>
        <p:pic>
          <p:nvPicPr>
            <p:cNvPr id="377" name="Rectangle 11" descr=""/>
            <p:cNvPicPr/>
            <p:nvPr/>
          </p:nvPicPr>
          <p:blipFill>
            <a:blip r:embed="rId6"/>
            <a:stretch/>
          </p:blipFill>
          <p:spPr>
            <a:xfrm>
              <a:off x="3767040" y="5072040"/>
              <a:ext cx="20433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780000" y="5084640"/>
              <a:ext cx="2016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URO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Line 13" descr=""/>
          <p:cNvPicPr/>
          <p:nvPr/>
        </p:nvPicPr>
        <p:blipFill>
          <a:blip r:embed="rId7"/>
          <a:stretch/>
        </p:blipFill>
        <p:spPr>
          <a:xfrm>
            <a:off x="5456160" y="1573200"/>
            <a:ext cx="304920" cy="1316160"/>
          </a:xfrm>
          <a:prstGeom prst="rect">
            <a:avLst/>
          </a:prstGeom>
          <a:ln w="0">
            <a:noFill/>
          </a:ln>
        </p:spPr>
      </p:pic>
      <p:grpSp>
        <p:nvGrpSpPr>
          <p:cNvPr id="380" name="Rectangle 14"/>
          <p:cNvGrpSpPr/>
          <p:nvPr/>
        </p:nvGrpSpPr>
        <p:grpSpPr>
          <a:xfrm>
            <a:off x="5492880" y="2766960"/>
            <a:ext cx="1614240" cy="677880"/>
            <a:chOff x="5492880" y="2766960"/>
            <a:chExt cx="1614240" cy="677880"/>
          </a:xfrm>
        </p:grpSpPr>
        <p:pic>
          <p:nvPicPr>
            <p:cNvPr id="381" name="Rectangle 14" descr=""/>
            <p:cNvPicPr/>
            <p:nvPr/>
          </p:nvPicPr>
          <p:blipFill>
            <a:blip r:embed="rId8"/>
            <a:stretch/>
          </p:blipFill>
          <p:spPr>
            <a:xfrm>
              <a:off x="5492880" y="2766960"/>
              <a:ext cx="161424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508720" y="27813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F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Line 15" descr=""/>
          <p:cNvPicPr/>
          <p:nvPr/>
        </p:nvPicPr>
        <p:blipFill>
          <a:blip r:embed="rId9"/>
          <a:stretch/>
        </p:blipFill>
        <p:spPr>
          <a:xfrm>
            <a:off x="7327800" y="1573200"/>
            <a:ext cx="304920" cy="2827440"/>
          </a:xfrm>
          <a:prstGeom prst="rect">
            <a:avLst/>
          </a:prstGeom>
          <a:ln w="0">
            <a:noFill/>
          </a:ln>
        </p:spPr>
      </p:pic>
      <p:grpSp>
        <p:nvGrpSpPr>
          <p:cNvPr id="384" name="Rectangle 16"/>
          <p:cNvGrpSpPr/>
          <p:nvPr/>
        </p:nvGrpSpPr>
        <p:grpSpPr>
          <a:xfrm>
            <a:off x="6931080" y="4352760"/>
            <a:ext cx="1974960" cy="676440"/>
            <a:chOff x="6931080" y="4352760"/>
            <a:chExt cx="1974960" cy="676440"/>
          </a:xfrm>
        </p:grpSpPr>
        <p:pic>
          <p:nvPicPr>
            <p:cNvPr id="385" name="Rectangle 16" descr=""/>
            <p:cNvPicPr/>
            <p:nvPr/>
          </p:nvPicPr>
          <p:blipFill>
            <a:blip r:embed="rId10"/>
            <a:stretch/>
          </p:blipFill>
          <p:spPr>
            <a:xfrm>
              <a:off x="6931080" y="4352760"/>
              <a:ext cx="19749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948360" y="4365720"/>
              <a:ext cx="1944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É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383c60"/>
                </a:solidFill>
                <a:latin typeface="Gill Sans MT"/>
              </a:rPr>
              <a:t>ELEMENTOS A TRABAJAR EN LAS RELIGONES 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28400" y="1213920"/>
            <a:ext cx="8429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Ubicación. 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Geográfica e históri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Dios.</a:t>
            </a: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uál la imagen que se tiene de él (uno – varios – inmanente – trascendente ….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Mediaciones.</a:t>
            </a:r>
            <a:r>
              <a:rPr b="1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itos religiosos – Ritos – Vida de Oración – Moral – Libros Sagrado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Estructura de la religión.</a:t>
            </a:r>
            <a:r>
              <a:rPr b="1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acerdocio – Grupos sociales – política – Profetas –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f4259"/>
                </a:solidFill>
                <a:latin typeface="Gill Sans MT"/>
              </a:rPr>
              <a:t>Trabajo de consulta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434960" y="1447920"/>
            <a:ext cx="7499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Organizarse en 5 grup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1: HINDU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2: BUD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3: JUDA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4: CRISTIAN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5: ISLAM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1.trabajo escrit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ppt para presentar al grupo en 6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7304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f4259"/>
                </a:solidFill>
                <a:latin typeface="Gill Sans MT"/>
              </a:rPr>
              <a:t>Fechas:9o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Trabajo en clase: mayo 10 primera revisiò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trega de trabajo y exposición: mayo 18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7304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f4259"/>
                </a:solidFill>
                <a:latin typeface="Gill Sans MT"/>
              </a:rPr>
              <a:t>Fechas:9b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Trabajo en clase: mayo 11 primera revisiò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trega de trabajo y exposición: mayo 19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7304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f4259"/>
                </a:solidFill>
                <a:latin typeface="Gill Sans MT"/>
              </a:rPr>
              <a:t>Fechas:9C, 9R, 9G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Trabajo en clase: mayo 12 primera revisiò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trega de trabajo y exposición: mayo 2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15"/>
          <p:cNvSpPr/>
          <p:nvPr/>
        </p:nvSpPr>
        <p:spPr>
          <a:xfrm>
            <a:off x="250920" y="2708280"/>
            <a:ext cx="3313080" cy="9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EMO OR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3851280" y="1201680"/>
            <a:ext cx="4751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s y antiguas civil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7"/>
          <p:cNvSpPr/>
          <p:nvPr/>
        </p:nvSpPr>
        <p:spPr>
          <a:xfrm>
            <a:off x="3851280" y="2421000"/>
            <a:ext cx="136836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8"/>
          <p:cNvSpPr/>
          <p:nvPr/>
        </p:nvSpPr>
        <p:spPr>
          <a:xfrm>
            <a:off x="5435640" y="2421000"/>
            <a:ext cx="1512720" cy="720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9"/>
          <p:cNvSpPr/>
          <p:nvPr/>
        </p:nvSpPr>
        <p:spPr>
          <a:xfrm>
            <a:off x="7236000" y="2421000"/>
            <a:ext cx="151272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4"/>
          <p:cNvSpPr/>
          <p:nvPr/>
        </p:nvSpPr>
        <p:spPr>
          <a:xfrm>
            <a:off x="3492360" y="3933720"/>
            <a:ext cx="525780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 dado forma a la vida y la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esos pueb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5"/>
          <p:cNvSpPr/>
          <p:nvPr/>
        </p:nvSpPr>
        <p:spPr>
          <a:xfrm>
            <a:off x="0" y="5373720"/>
            <a:ext cx="2736720" cy="863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INDU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6"/>
          <p:cNvSpPr/>
          <p:nvPr/>
        </p:nvSpPr>
        <p:spPr>
          <a:xfrm>
            <a:off x="2916360" y="5300640"/>
            <a:ext cx="2663640" cy="9349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U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7"/>
          <p:cNvSpPr/>
          <p:nvPr/>
        </p:nvSpPr>
        <p:spPr>
          <a:xfrm>
            <a:off x="5796000" y="5300640"/>
            <a:ext cx="3348000" cy="9349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NFUCI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9"/>
          <p:cNvSpPr/>
          <p:nvPr/>
        </p:nvSpPr>
        <p:spPr>
          <a:xfrm flipH="1">
            <a:off x="4858920" y="1916280"/>
            <a:ext cx="108108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0"/>
          <p:cNvSpPr/>
          <p:nvPr/>
        </p:nvSpPr>
        <p:spPr>
          <a:xfrm>
            <a:off x="5940360" y="19162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1"/>
          <p:cNvSpPr/>
          <p:nvPr/>
        </p:nvSpPr>
        <p:spPr>
          <a:xfrm>
            <a:off x="5940360" y="1916280"/>
            <a:ext cx="165600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3"/>
          <p:cNvSpPr/>
          <p:nvPr/>
        </p:nvSpPr>
        <p:spPr>
          <a:xfrm flipH="1">
            <a:off x="2484000" y="4724280"/>
            <a:ext cx="287964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4"/>
          <p:cNvSpPr/>
          <p:nvPr/>
        </p:nvSpPr>
        <p:spPr>
          <a:xfrm flipH="1">
            <a:off x="5003280" y="4724280"/>
            <a:ext cx="360360" cy="64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5"/>
          <p:cNvSpPr/>
          <p:nvPr/>
        </p:nvSpPr>
        <p:spPr>
          <a:xfrm>
            <a:off x="5364000" y="4724280"/>
            <a:ext cx="107964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7"/>
          <p:cNvSpPr/>
          <p:nvPr/>
        </p:nvSpPr>
        <p:spPr>
          <a:xfrm flipV="1">
            <a:off x="3203640" y="1915920"/>
            <a:ext cx="792000" cy="93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8"/>
          <p:cNvSpPr/>
          <p:nvPr/>
        </p:nvSpPr>
        <p:spPr>
          <a:xfrm>
            <a:off x="3276720" y="3429000"/>
            <a:ext cx="790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Oval 4"/>
          <p:cNvSpPr/>
          <p:nvPr/>
        </p:nvSpPr>
        <p:spPr>
          <a:xfrm>
            <a:off x="395280" y="907920"/>
            <a:ext cx="3889440" cy="10083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E PRÓX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4932360" y="476280"/>
            <a:ext cx="3960720" cy="720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na de grandes relig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5003640" y="1557360"/>
            <a:ext cx="3889440" cy="13669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igión judía se remo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ño 2000 a.C., co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ción de Abrah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"/>
          <p:cNvSpPr/>
          <p:nvPr/>
        </p:nvSpPr>
        <p:spPr>
          <a:xfrm>
            <a:off x="684360" y="2924280"/>
            <a:ext cx="3311280" cy="8650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daí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684360" y="4221000"/>
            <a:ext cx="4679640" cy="1079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 una teocracia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l factor religioso es la raí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os aspec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"/>
          <p:cNvSpPr/>
          <p:nvPr/>
        </p:nvSpPr>
        <p:spPr>
          <a:xfrm>
            <a:off x="6012000" y="3213000"/>
            <a:ext cx="2592360" cy="647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6084720" y="4076640"/>
            <a:ext cx="2735280" cy="5763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1"/>
          <p:cNvSpPr/>
          <p:nvPr/>
        </p:nvSpPr>
        <p:spPr>
          <a:xfrm>
            <a:off x="6084720" y="5013360"/>
            <a:ext cx="2880000" cy="647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395280" y="6021360"/>
            <a:ext cx="842472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rá el islamismo, fundado por Mahoma en el S. VII d.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4"/>
          <p:cNvSpPr/>
          <p:nvPr/>
        </p:nvSpPr>
        <p:spPr>
          <a:xfrm flipV="1">
            <a:off x="4140360" y="836280"/>
            <a:ext cx="792000" cy="36036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5"/>
          <p:cNvSpPr/>
          <p:nvPr/>
        </p:nvSpPr>
        <p:spPr>
          <a:xfrm>
            <a:off x="4211640" y="1557360"/>
            <a:ext cx="792000" cy="57636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"/>
          <p:cNvSpPr/>
          <p:nvPr/>
        </p:nvSpPr>
        <p:spPr>
          <a:xfrm>
            <a:off x="2340000" y="1916280"/>
            <a:ext cx="0" cy="100800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7"/>
          <p:cNvSpPr/>
          <p:nvPr/>
        </p:nvSpPr>
        <p:spPr>
          <a:xfrm>
            <a:off x="2340000" y="3789360"/>
            <a:ext cx="0" cy="43164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8"/>
          <p:cNvSpPr/>
          <p:nvPr/>
        </p:nvSpPr>
        <p:spPr>
          <a:xfrm flipV="1">
            <a:off x="5364000" y="3716280"/>
            <a:ext cx="792360" cy="100800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9"/>
          <p:cNvSpPr/>
          <p:nvPr/>
        </p:nvSpPr>
        <p:spPr>
          <a:xfrm flipV="1">
            <a:off x="5364000" y="4437000"/>
            <a:ext cx="792360" cy="28728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0"/>
          <p:cNvSpPr/>
          <p:nvPr/>
        </p:nvSpPr>
        <p:spPr>
          <a:xfrm>
            <a:off x="5364000" y="4724280"/>
            <a:ext cx="792360" cy="50508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Oval 4"/>
          <p:cNvSpPr/>
          <p:nvPr/>
        </p:nvSpPr>
        <p:spPr>
          <a:xfrm>
            <a:off x="539640" y="692280"/>
            <a:ext cx="3024360" cy="11523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4067280" y="549360"/>
            <a:ext cx="453708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fue unificando cultur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cias al fenómeno relig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ristian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Organization Chart 10"/>
          <p:cNvGrpSpPr/>
          <p:nvPr/>
        </p:nvGrpSpPr>
        <p:grpSpPr>
          <a:xfrm>
            <a:off x="539640" y="1698480"/>
            <a:ext cx="6821280" cy="2993760"/>
            <a:chOff x="539640" y="1698480"/>
            <a:chExt cx="6821280" cy="2993760"/>
          </a:xfrm>
        </p:grpSpPr>
        <p:cxnSp>
          <p:nvCxnSpPr>
            <p:cNvPr id="423" name="_s1028"/>
            <p:cNvCxnSpPr>
              <a:stCxn id="424" idx="0"/>
              <a:endCxn id="425" idx="2"/>
            </p:cNvCxnSpPr>
            <p:nvPr/>
          </p:nvCxnSpPr>
          <p:spPr>
            <a:xfrm flipV="1">
              <a:off x="6301800" y="3475800"/>
              <a:ext cx="2160" cy="250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6" name="_s1029"/>
            <p:cNvCxnSpPr>
              <a:stCxn id="427" idx="0"/>
              <a:endCxn id="428" idx="2"/>
            </p:cNvCxnSpPr>
            <p:nvPr/>
          </p:nvCxnSpPr>
          <p:spPr>
            <a:xfrm flipV="1" rot="16200000">
              <a:off x="3824640" y="3600000"/>
              <a:ext cx="2509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9" name="_s1030"/>
            <p:cNvCxnSpPr>
              <a:stCxn id="430" idx="0"/>
              <a:endCxn id="431" idx="2"/>
            </p:cNvCxnSpPr>
            <p:nvPr/>
          </p:nvCxnSpPr>
          <p:spPr>
            <a:xfrm flipV="1" rot="16200000">
              <a:off x="1472040" y="3600000"/>
              <a:ext cx="2509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2" name="_s1031"/>
            <p:cNvCxnSpPr>
              <a:stCxn id="425" idx="0"/>
              <a:endCxn id="433" idx="2"/>
            </p:cNvCxnSpPr>
            <p:nvPr/>
          </p:nvCxnSpPr>
          <p:spPr>
            <a:xfrm flipV="1" rot="16200000">
              <a:off x="4999680" y="1176840"/>
              <a:ext cx="250920" cy="2352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4" name="_s1032"/>
            <p:cNvCxnSpPr>
              <a:stCxn id="428" idx="0"/>
              <a:endCxn id="433" idx="2"/>
            </p:cNvCxnSpPr>
            <p:nvPr/>
          </p:nvCxnSpPr>
          <p:spPr>
            <a:xfrm flipV="1">
              <a:off x="3949560" y="2227680"/>
              <a:ext cx="2160" cy="250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5" name="_s1033"/>
            <p:cNvCxnSpPr>
              <a:stCxn id="431" idx="0"/>
              <a:endCxn id="433" idx="2"/>
            </p:cNvCxnSpPr>
            <p:nvPr/>
          </p:nvCxnSpPr>
          <p:spPr>
            <a:xfrm flipH="1" flipV="1" rot="5400000">
              <a:off x="2647800" y="1176840"/>
              <a:ext cx="250920" cy="2352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33" name="_s1034"/>
            <p:cNvSpPr/>
            <p:nvPr/>
          </p:nvSpPr>
          <p:spPr>
            <a:xfrm>
              <a:off x="3244320" y="1698480"/>
              <a:ext cx="1410120" cy="52920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240" rIns="4824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5"/>
            <p:cNvSpPr/>
            <p:nvPr/>
          </p:nvSpPr>
          <p:spPr>
            <a:xfrm>
              <a:off x="782640" y="2478240"/>
              <a:ext cx="1629000" cy="99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240" rIns="4824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lit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36"/>
            <p:cNvSpPr/>
            <p:nvPr/>
          </p:nvSpPr>
          <p:spPr>
            <a:xfrm>
              <a:off x="3134880" y="2478240"/>
              <a:ext cx="1629000" cy="99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240" rIns="4824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mús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1037"/>
            <p:cNvSpPr/>
            <p:nvPr/>
          </p:nvSpPr>
          <p:spPr>
            <a:xfrm>
              <a:off x="5487120" y="2478240"/>
              <a:ext cx="1628640" cy="99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240" rIns="4824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 pintu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8"/>
            <p:cNvSpPr/>
            <p:nvPr/>
          </p:nvSpPr>
          <p:spPr>
            <a:xfrm>
              <a:off x="539640" y="3726360"/>
              <a:ext cx="2116800" cy="96588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 escultu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o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39"/>
            <p:cNvSpPr/>
            <p:nvPr/>
          </p:nvSpPr>
          <p:spPr>
            <a:xfrm>
              <a:off x="2891520" y="3726360"/>
              <a:ext cx="2116800" cy="96588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 basíl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040"/>
            <p:cNvSpPr/>
            <p:nvPr/>
          </p:nvSpPr>
          <p:spPr>
            <a:xfrm>
              <a:off x="5243760" y="3726360"/>
              <a:ext cx="2117160" cy="96588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 cated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27"/>
          <p:cNvSpPr/>
          <p:nvPr/>
        </p:nvSpPr>
        <p:spPr>
          <a:xfrm>
            <a:off x="179280" y="5300640"/>
            <a:ext cx="266400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9"/>
          <p:cNvSpPr/>
          <p:nvPr/>
        </p:nvSpPr>
        <p:spPr>
          <a:xfrm>
            <a:off x="3276720" y="5229360"/>
            <a:ext cx="5688000" cy="1295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stumbres, el calendar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iestas, etc., nacen y se desarrol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orno al culto crist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0"/>
          <p:cNvSpPr/>
          <p:nvPr/>
        </p:nvSpPr>
        <p:spPr>
          <a:xfrm>
            <a:off x="2843280" y="5589720"/>
            <a:ext cx="433440" cy="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Organization Chart 5"/>
          <p:cNvGrpSpPr/>
          <p:nvPr/>
        </p:nvGrpSpPr>
        <p:grpSpPr>
          <a:xfrm>
            <a:off x="0" y="404640"/>
            <a:ext cx="9143280" cy="6453000"/>
            <a:chOff x="0" y="404640"/>
            <a:chExt cx="9143280" cy="6453000"/>
          </a:xfrm>
        </p:grpSpPr>
        <p:cxnSp>
          <p:nvCxnSpPr>
            <p:cNvPr id="440" name="_s2052"/>
            <p:cNvCxnSpPr>
              <a:stCxn id="441" idx="1"/>
              <a:endCxn id="442" idx="2"/>
            </p:cNvCxnSpPr>
            <p:nvPr/>
          </p:nvCxnSpPr>
          <p:spPr>
            <a:xfrm rot="10800000">
              <a:off x="2660400" y="3955320"/>
              <a:ext cx="430200" cy="232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3" name="_s2053"/>
            <p:cNvCxnSpPr>
              <a:stCxn id="444" idx="1"/>
              <a:endCxn id="442" idx="2"/>
            </p:cNvCxnSpPr>
            <p:nvPr/>
          </p:nvCxnSpPr>
          <p:spPr>
            <a:xfrm rot="10800000">
              <a:off x="2660400" y="3955320"/>
              <a:ext cx="430200" cy="87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5" name="_s2054"/>
            <p:cNvCxnSpPr>
              <a:stCxn id="442" idx="0"/>
              <a:endCxn id="446" idx="2"/>
            </p:cNvCxnSpPr>
            <p:nvPr/>
          </p:nvCxnSpPr>
          <p:spPr>
            <a:xfrm flipH="1" flipV="1" rot="5400000">
              <a:off x="3510360" y="1138320"/>
              <a:ext cx="291600" cy="199080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2055"/>
            <p:cNvCxnSpPr>
              <a:stCxn id="446" idx="0"/>
              <a:endCxn id="448" idx="2"/>
            </p:cNvCxnSpPr>
            <p:nvPr/>
          </p:nvCxnSpPr>
          <p:spPr>
            <a:xfrm flipV="1" rot="16200000">
              <a:off x="4464720" y="1155240"/>
              <a:ext cx="291600" cy="8136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8" name="_s2056"/>
            <p:cNvSpPr/>
            <p:nvPr/>
          </p:nvSpPr>
          <p:spPr>
            <a:xfrm>
              <a:off x="3271320" y="404640"/>
              <a:ext cx="2597760" cy="64620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F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2057"/>
            <p:cNvSpPr/>
            <p:nvPr/>
          </p:nvSpPr>
          <p:spPr>
            <a:xfrm>
              <a:off x="3090600" y="1341720"/>
              <a:ext cx="3121200" cy="646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relig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2058"/>
            <p:cNvSpPr/>
            <p:nvPr/>
          </p:nvSpPr>
          <p:spPr>
            <a:xfrm>
              <a:off x="0" y="2279160"/>
              <a:ext cx="5319000" cy="16768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o es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 integrador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últiples etni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2059"/>
            <p:cNvSpPr/>
            <p:nvPr/>
          </p:nvSpPr>
          <p:spPr>
            <a:xfrm>
              <a:off x="3090600" y="4246920"/>
              <a:ext cx="6052680" cy="115956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aca 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lto a los dio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2060"/>
            <p:cNvSpPr/>
            <p:nvPr/>
          </p:nvSpPr>
          <p:spPr>
            <a:xfrm>
              <a:off x="3090600" y="5697720"/>
              <a:ext cx="6052680" cy="11599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encia en una v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ás allá de la mu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21"/>
          <p:cNvSpPr/>
          <p:nvPr/>
        </p:nvSpPr>
        <p:spPr>
          <a:xfrm>
            <a:off x="324000" y="4618080"/>
            <a:ext cx="2519280" cy="1595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manifiest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versidad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os en 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s dif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AutoShape 23"/>
          <p:cNvGrpSpPr/>
          <p:nvPr/>
        </p:nvGrpSpPr>
        <p:grpSpPr>
          <a:xfrm>
            <a:off x="2895480" y="5187960"/>
            <a:ext cx="542880" cy="511200"/>
            <a:chOff x="2895480" y="5187960"/>
            <a:chExt cx="542880" cy="511200"/>
          </a:xfrm>
        </p:grpSpPr>
        <p:pic>
          <p:nvPicPr>
            <p:cNvPr id="451" name="AutoShape 23" descr=""/>
            <p:cNvPicPr/>
            <p:nvPr/>
          </p:nvPicPr>
          <p:blipFill>
            <a:blip r:embed="rId1"/>
            <a:stretch/>
          </p:blipFill>
          <p:spPr>
            <a:xfrm>
              <a:off x="2895480" y="5187960"/>
              <a:ext cx="54288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979720" y="5337000"/>
              <a:ext cx="4399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Picture 16" descr="http://1.bp.blogspot.com/_51HS79Tv-XA/SwfviC_TjVI/AAAAAAAACL4/Dn5f-JdIpU0/s1600/1.jpg"/>
          <p:cNvPicPr/>
          <p:nvPr/>
        </p:nvPicPr>
        <p:blipFill>
          <a:blip r:embed="rId2"/>
          <a:stretch/>
        </p:blipFill>
        <p:spPr>
          <a:xfrm>
            <a:off x="5508720" y="1116000"/>
            <a:ext cx="31320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4"/>
          <p:cNvSpPr/>
          <p:nvPr/>
        </p:nvSpPr>
        <p:spPr>
          <a:xfrm>
            <a:off x="468360" y="765000"/>
            <a:ext cx="3382920" cy="11512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5"/>
          <p:cNvGrpSpPr/>
          <p:nvPr/>
        </p:nvGrpSpPr>
        <p:grpSpPr>
          <a:xfrm>
            <a:off x="5108400" y="506520"/>
            <a:ext cx="3681720" cy="2382840"/>
            <a:chOff x="5108400" y="506520"/>
            <a:chExt cx="3681720" cy="2382840"/>
          </a:xfrm>
        </p:grpSpPr>
        <p:pic>
          <p:nvPicPr>
            <p:cNvPr id="456" name="Rectangle 5" descr=""/>
            <p:cNvPicPr/>
            <p:nvPr/>
          </p:nvPicPr>
          <p:blipFill>
            <a:blip r:embed="rId1"/>
            <a:stretch/>
          </p:blipFill>
          <p:spPr>
            <a:xfrm>
              <a:off x="5108400" y="506520"/>
              <a:ext cx="368172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11640" y="511200"/>
              <a:ext cx="367200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quistadores españo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encontraron con prác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osas que configurab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cultura y la conviv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cial de los pueblos azteca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ya e inca, etc.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Rectangle 6"/>
          <p:cNvGrpSpPr/>
          <p:nvPr/>
        </p:nvGrpSpPr>
        <p:grpSpPr>
          <a:xfrm>
            <a:off x="3200400" y="3352680"/>
            <a:ext cx="5626080" cy="804960"/>
            <a:chOff x="3200400" y="3352680"/>
            <a:chExt cx="5626080" cy="804960"/>
          </a:xfrm>
        </p:grpSpPr>
        <p:pic>
          <p:nvPicPr>
            <p:cNvPr id="459" name="Rectangle 6" descr=""/>
            <p:cNvPicPr/>
            <p:nvPr/>
          </p:nvPicPr>
          <p:blipFill>
            <a:blip r:embed="rId2"/>
            <a:stretch/>
          </p:blipFill>
          <p:spPr>
            <a:xfrm>
              <a:off x="3200400" y="3352680"/>
              <a:ext cx="56260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3203640" y="3357720"/>
              <a:ext cx="561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resiones religiosa aberrant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acrificios human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Rectangle 7"/>
          <p:cNvGrpSpPr/>
          <p:nvPr/>
        </p:nvGrpSpPr>
        <p:grpSpPr>
          <a:xfrm>
            <a:off x="317520" y="4286160"/>
            <a:ext cx="3754440" cy="876240"/>
            <a:chOff x="317520" y="4286160"/>
            <a:chExt cx="3754440" cy="876240"/>
          </a:xfrm>
        </p:grpSpPr>
        <p:pic>
          <p:nvPicPr>
            <p:cNvPr id="462" name="Rectangle 7" descr=""/>
            <p:cNvPicPr/>
            <p:nvPr/>
          </p:nvPicPr>
          <p:blipFill>
            <a:blip r:embed="rId3"/>
            <a:stretch/>
          </p:blipFill>
          <p:spPr>
            <a:xfrm>
              <a:off x="317520" y="4286160"/>
              <a:ext cx="375444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4000" y="4292640"/>
              <a:ext cx="37432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junto de su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ifestaciones artísticas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ctangle 8"/>
          <p:cNvSpPr/>
          <p:nvPr/>
        </p:nvSpPr>
        <p:spPr>
          <a:xfrm>
            <a:off x="971640" y="5445000"/>
            <a:ext cx="3960720" cy="432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umentos arque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971640" y="6165720"/>
            <a:ext cx="3744720" cy="503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4048200" y="1238400"/>
            <a:ext cx="834840" cy="493560"/>
            <a:chOff x="4048200" y="1238400"/>
            <a:chExt cx="834840" cy="493560"/>
          </a:xfrm>
        </p:grpSpPr>
        <p:pic>
          <p:nvPicPr>
            <p:cNvPr id="467" name="AutoShape 11" descr=""/>
            <p:cNvPicPr/>
            <p:nvPr/>
          </p:nvPicPr>
          <p:blipFill>
            <a:blip r:embed="rId4"/>
            <a:stretch/>
          </p:blipFill>
          <p:spPr>
            <a:xfrm>
              <a:off x="4048200" y="1238400"/>
              <a:ext cx="8348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191120" y="1376280"/>
              <a:ext cx="569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4"/>
          <p:cNvGrpSpPr/>
          <p:nvPr/>
        </p:nvGrpSpPr>
        <p:grpSpPr>
          <a:xfrm>
            <a:off x="3597120" y="2036880"/>
            <a:ext cx="505080" cy="1017360"/>
            <a:chOff x="3597120" y="2036880"/>
            <a:chExt cx="505080" cy="1017360"/>
          </a:xfrm>
        </p:grpSpPr>
        <p:pic>
          <p:nvPicPr>
            <p:cNvPr id="470" name="AutoShape 14" descr=""/>
            <p:cNvPicPr/>
            <p:nvPr/>
          </p:nvPicPr>
          <p:blipFill>
            <a:blip r:embed="rId5"/>
            <a:stretch/>
          </p:blipFill>
          <p:spPr>
            <a:xfrm>
              <a:off x="3597120" y="2036880"/>
              <a:ext cx="50508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743280" y="2060640"/>
              <a:ext cx="21600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AutoShape 15"/>
          <p:cNvGrpSpPr/>
          <p:nvPr/>
        </p:nvGrpSpPr>
        <p:grpSpPr>
          <a:xfrm>
            <a:off x="1736640" y="2182680"/>
            <a:ext cx="628560" cy="1706760"/>
            <a:chOff x="1736640" y="2182680"/>
            <a:chExt cx="628560" cy="1706760"/>
          </a:xfrm>
        </p:grpSpPr>
        <p:pic>
          <p:nvPicPr>
            <p:cNvPr id="473" name="AutoShape 15" descr=""/>
            <p:cNvPicPr/>
            <p:nvPr/>
          </p:nvPicPr>
          <p:blipFill>
            <a:blip r:embed="rId6"/>
            <a:stretch/>
          </p:blipFill>
          <p:spPr>
            <a:xfrm>
              <a:off x="1736640" y="2182680"/>
              <a:ext cx="628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1908000" y="2205000"/>
              <a:ext cx="28764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AutoShape 16" descr=""/>
          <p:cNvPicPr/>
          <p:nvPr/>
        </p:nvPicPr>
        <p:blipFill>
          <a:blip r:embed="rId7"/>
          <a:stretch/>
        </p:blipFill>
        <p:spPr>
          <a:xfrm>
            <a:off x="304920" y="5394240"/>
            <a:ext cx="401400" cy="390600"/>
          </a:xfrm>
          <a:prstGeom prst="rect">
            <a:avLst/>
          </a:prstGeom>
          <a:ln w="0">
            <a:noFill/>
          </a:ln>
        </p:spPr>
      </p:pic>
      <p:pic>
        <p:nvPicPr>
          <p:cNvPr id="476" name="AutoShape 18" descr=""/>
          <p:cNvPicPr/>
          <p:nvPr/>
        </p:nvPicPr>
        <p:blipFill>
          <a:blip r:embed="rId8"/>
          <a:stretch/>
        </p:blipFill>
        <p:spPr>
          <a:xfrm>
            <a:off x="304920" y="5919840"/>
            <a:ext cx="328320" cy="5666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20"/>
          <p:cNvSpPr/>
          <p:nvPr/>
        </p:nvSpPr>
        <p:spPr>
          <a:xfrm>
            <a:off x="5508720" y="5229360"/>
            <a:ext cx="3456000" cy="100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an la profund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sa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AutoShape 21"/>
          <p:cNvGrpSpPr/>
          <p:nvPr/>
        </p:nvGrpSpPr>
        <p:grpSpPr>
          <a:xfrm>
            <a:off x="4840200" y="5992920"/>
            <a:ext cx="549360" cy="274680"/>
            <a:chOff x="4840200" y="5992920"/>
            <a:chExt cx="549360" cy="274680"/>
          </a:xfrm>
        </p:grpSpPr>
        <p:pic>
          <p:nvPicPr>
            <p:cNvPr id="479" name="AutoShape 21" descr=""/>
            <p:cNvPicPr/>
            <p:nvPr/>
          </p:nvPicPr>
          <p:blipFill>
            <a:blip r:embed="rId9"/>
            <a:stretch/>
          </p:blipFill>
          <p:spPr>
            <a:xfrm>
              <a:off x="4840200" y="5992920"/>
              <a:ext cx="54936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938840" y="6075360"/>
              <a:ext cx="3618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3:20:11Z</dcterms:created>
  <dc:creator>LaSalle</dc:creator>
  <dc:description/>
  <dc:language>en-US</dc:language>
  <cp:lastModifiedBy>Maria Teresa Rosero</cp:lastModifiedBy>
  <dcterms:modified xsi:type="dcterms:W3CDTF">2017-05-02T11:06:59Z</dcterms:modified>
  <cp:revision>50</cp:revision>
  <dc:subject/>
  <dc:title>Teoría de la religión</dc:title>
</cp:coreProperties>
</file>